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18DF-509F-47C0-83EB-CE64729D6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44D4-9BE2-4B9B-A3B5-97949C2F2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B565-E5C7-42F0-BED7-63083CF57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3F2A-3ABF-45A7-B018-10A1307E9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97A6C-9EC5-4905-A068-76ECF234E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21FB4-01A4-40EE-9495-B5252414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A1D0-11B5-4C64-A8AA-9738F43C2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E04F-929D-48B8-980D-7ACD53B3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0EF9-45E6-4DFA-B3D8-5B3C48DC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EE7EC-A668-496A-8F3E-BF71F77B8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7B3E-F420-4EF6-AF06-E87A27F9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03B8-230E-4B13-9EE1-F304B50B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1292F-1610-4084-8B57-C8870528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2B42-F736-466D-A7A3-C17291B2F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82AE3-B8EF-41B2-93DD-C2BB36A0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2D68-25F5-469D-B10B-C55F8B75A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B62F-BC10-4922-849E-2B7215063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E82E-E472-486B-8763-8D906FFA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B148-E415-4AC8-80CA-1C6192E0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06C3-A1E1-47D6-9AD7-812BB6D6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25E9-6208-45DF-AA33-DE286000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4882-860D-44DD-B013-BF122843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AD1F-3B50-4E66-9739-CF699340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2E30-BF30-470B-BB77-2371AB22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7A22D-386D-4DA2-A144-B9F0E02108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0BF7-50BA-49DE-A5A3-3D2A8E0F657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000099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yarrarangesnetwork.wikispaces.com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258920" y="5157360"/>
            <a:ext cx="633744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arra Ranges Net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Q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" descr=""/>
          <p:cNvPicPr/>
          <p:nvPr/>
        </p:nvPicPr>
        <p:blipFill>
          <a:blip r:embed="rId1"/>
          <a:stretch/>
        </p:blipFill>
        <p:spPr>
          <a:xfrm>
            <a:off x="2987640" y="549360"/>
            <a:ext cx="3024360" cy="1982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39640" y="2708280"/>
            <a:ext cx="7993080" cy="23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Enhancing literacy and numeracy 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 Black"/>
              </a:rPr>
              <a:t>outcomes through eLearning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800" spc="-1" strike="noStrike">
                <a:solidFill>
                  <a:srgbClr val="ffff00"/>
                </a:solidFill>
                <a:latin typeface="Arial"/>
              </a:rPr>
              <a:t>Network wiki</a:t>
            </a:r>
            <a:br>
              <a:rPr sz="3800"/>
            </a:br>
            <a:r>
              <a:rPr b="0" lang="en-AU" sz="3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AU" sz="3200" spc="-1" strike="noStrike">
                <a:solidFill>
                  <a:srgbClr val="ffff00"/>
                </a:solidFill>
                <a:latin typeface="Arial"/>
              </a:rPr>
              <a:t>yarrarangesnetwork.wikispaces.com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3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552680"/>
            <a:ext cx="66247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Meeting program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000" y="980640"/>
            <a:ext cx="813564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elcome back; welcome to new particip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eeds and skills data coll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ome paperwork: Participant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roductions - Meet same-level colleagues across the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ink, Pair, Sh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Partnership and Team formation for school based professional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Learning and planning for tri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Level 1: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Photostory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Judy Drew &amp; David Pelo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Level 2: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Photostory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Peter Humphr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Level 3: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Wikis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Peter Humphre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ff0000"/>
                </a:solidFill>
                <a:latin typeface="Arial"/>
              </a:rPr>
              <a:t>Level 4: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Wikis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000" spc="-1" strike="noStrike">
                <a:solidFill>
                  <a:srgbClr val="6600cc"/>
                </a:solidFill>
                <a:latin typeface="Arial"/>
              </a:rPr>
              <a:t>David Pelo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etwork wi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603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Ways we work together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16000" y="1197000"/>
            <a:ext cx="712944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n with empathy and 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 a shared sense of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 respectful collab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problems construc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er judgements / keep an open m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knowledge diversity and dif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and act with positive i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constructive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e eth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opportunities to enjoy working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00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Data collection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24000" y="836640"/>
          <a:ext cx="8496000" cy="521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836640"/>
                    <a:ext cx="8496000" cy="52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95280" y="62164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two most commonly requested areas at each level were selected for the September meet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Participant forms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720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QTP requirement that participants complete these forms – please complete and return to me before you leave this afterno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00720" y="404640"/>
            <a:ext cx="4378320" cy="617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84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Arial"/>
              </a:rPr>
              <a:t>Introductions &amp; Think, Pair, Share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1196640"/>
            <a:ext cx="77724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f-Introdu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, Pair, Share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flect on the taster sessions from our first meeting 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lling Hills P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eracy with David Pelo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Numeracy with Esther Hal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, if any, ideas have you been able to implement with your class since this sess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successful have they bee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? / Why no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OR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an eLearning strategy or tool you have used recently with your class, commenting on your purpose and its succ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cord your experience on a post-it along with your name and school and group with like experiences on the butchers’ p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Partnership &amp; Team formation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arning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tion of needs-based partnerships and teams to organise coaching, team-teaching and modelling /peer observation in our respective sch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ggested possible groupings at Level 3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47800" y="4581360"/>
            <a:ext cx="1371600" cy="8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IW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Trish Rathm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Janice Sauvar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Natalie Lo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48000" y="4581360"/>
            <a:ext cx="1486080" cy="8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 u="sng">
                <a:solidFill>
                  <a:srgbClr val="000000"/>
                </a:solidFill>
                <a:uFillTx/>
                <a:latin typeface="Times New Roman"/>
              </a:rPr>
              <a:t>Photo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Helen He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Mary Anne Doo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62680" y="4581360"/>
            <a:ext cx="1371600" cy="86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ren Ra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anne Keho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47800" y="5610240"/>
            <a:ext cx="137160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Podca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sh Rathm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nice Sauvar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348000" y="5610240"/>
            <a:ext cx="148608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ik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en He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y Anne Doo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62680" y="5610240"/>
            <a:ext cx="1371600" cy="10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rren Rat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ianne Keho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alie Lo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Arial"/>
              </a:rPr>
              <a:t>eLearning &amp; Planning for Trials</a:t>
            </a:r>
            <a:endParaRPr b="0" lang="en-US" sz="4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964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Level 1: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Photostory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Judy Drew &amp; David Pelo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Level 2: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Photostory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Peter Humphr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Level 3: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Wikis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Peter Humphr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Level 4: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Wikis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Cathy Blackb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Interactive Whiteboards with </a:t>
            </a:r>
            <a:r>
              <a:rPr b="0" lang="en-AU" sz="2400" spc="-1" strike="noStrike">
                <a:solidFill>
                  <a:srgbClr val="6600cc"/>
                </a:solidFill>
                <a:latin typeface="Arial"/>
              </a:rPr>
              <a:t>David Pelo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5075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Arial"/>
              </a:rPr>
              <a:t>Literacy &amp; Numeracy Tool Reflections</a:t>
            </a:r>
            <a:endParaRPr b="0" lang="en-US" sz="3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4" name="AGQTP Logo" descr=""/>
          <p:cNvPicPr/>
          <p:nvPr/>
        </p:nvPicPr>
        <p:blipFill>
          <a:blip r:embed="rId1"/>
          <a:stretch/>
        </p:blipFill>
        <p:spPr>
          <a:xfrm>
            <a:off x="615960" y="-6127920"/>
            <a:ext cx="1104840" cy="714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15960" y="-4681440"/>
            <a:ext cx="7086600" cy="3715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2880" y="-6127920"/>
            <a:ext cx="1287720" cy="80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614520" y="-4579920"/>
            <a:ext cx="7086600" cy="463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5960" y="-612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5960" y="-6127920"/>
            <a:ext cx="360" cy="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3800" y="-5368320"/>
            <a:ext cx="4908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YARRA RANGES AGQTP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nhancing Literacy and Numeracy Outcomes Through e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5960" y="-4681440"/>
            <a:ext cx="360" cy="360"/>
          </a:xfrm>
          <a:prstGeom prst="rect">
            <a:avLst/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40240" y="-4309560"/>
            <a:ext cx="48441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   Class Year Level: 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Choose a tool / eLearning strategy to try in your classro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15960" y="-3713040"/>
          <a:ext cx="6616800" cy="1460520"/>
        </p:xfrm>
        <a:graphic>
          <a:graphicData uri="http://schemas.openxmlformats.org/drawingml/2006/table">
            <a:tbl>
              <a:tblPr/>
              <a:tblGrid>
                <a:gridCol w="3308400"/>
                <a:gridCol w="3308400"/>
              </a:tblGrid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me of the tool / strate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bsite address (if applicabl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ttp:/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do you plan to implement it within your literacy curriculum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do you expect it to support your students’ learning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4" name=""/>
          <p:cNvSpPr/>
          <p:nvPr/>
        </p:nvSpPr>
        <p:spPr>
          <a:xfrm>
            <a:off x="586080" y="-2199600"/>
            <a:ext cx="7963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Now that you have tried this tool / eLearning strategy, which literacy skills does this tool assist students to develop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7040" y="12435840"/>
            <a:ext cx="636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ould you use this tool / strategy again? Give reasons for your ans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What modifications, if any, would you make to the integration of this tool / strategy into your progra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commendations to other teach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95280" y="1197000"/>
            <a:ext cx="3840120" cy="5349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4"/>
          <a:stretch/>
        </p:blipFill>
        <p:spPr>
          <a:xfrm>
            <a:off x="4788000" y="1197000"/>
            <a:ext cx="39877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1T03:47:22Z</dcterms:created>
  <dc:creator>02167970</dc:creator>
  <dc:description/>
  <dc:language>en-US</dc:language>
  <cp:lastModifiedBy>02167970</cp:lastModifiedBy>
  <dcterms:modified xsi:type="dcterms:W3CDTF">2009-09-02T02:44:51Z</dcterms:modified>
  <cp:revision>55</cp:revision>
  <dc:subject/>
  <dc:title>Enhancing literacy and numeracy outcomes through eLearning</dc:title>
</cp:coreProperties>
</file>